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pct" ContentType="image/x-pict"/>
  <Override PartName="/ppt/media/image4.png" ContentType="image/png"/>
  <Override PartName="/ppt/media/image2.jpeg" ContentType="image/jpeg"/>
  <Override PartName="/ppt/media/image3.jpeg" ContentType="image/jpeg"/>
  <Override PartName="/ppt/media/image5.jpeg" ContentType="image/jpeg"/>
  <Override PartName="/ppt/media/jeop.wav" ContentType="audio/x-wav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846E1-775C-4AEA-A10F-927F008FF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82C95-BB1B-4FD0-8749-20D5B8351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A84F4-4911-4689-8D3A-84E42C2CF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DCC9D-1CC7-4B9A-91A8-B48832F8F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89932-3782-4337-A1A5-3014777A0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0296F-033B-4723-985C-8592BDBEF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2229C-7D6F-4B89-AB8F-48C1B73FB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F075F-1951-4DD4-A99C-EE0AE8D2C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48B5B-EFB1-4EE2-8FEC-8B6CBC32A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BB3D3-4E6E-40BF-802E-46088BC6B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34805-0659-4FEF-ABB5-76A99B630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139F7-9940-4349-9791-53A1D8FE6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CA4BA-53F5-43C1-896A-2761D5CB5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6F6EB-27D2-48CC-B4AB-90DD3BA40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0D781-53A5-44F4-B730-A15FCD5CC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B1EBF-751F-43C5-BAFC-95B4DED45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CB4FD-9B89-493F-AE99-750CAEF3D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180A9-18D5-41A4-A615-054E3614A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6E9D2-94DB-42EC-9F0D-CC1BC8AFC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ABDB5-7081-4227-9A26-B82DA7431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784FA-97FC-4900-854D-9CC9357FE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E4574-8026-4A46-A3F3-A000028B0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8D89A-16B7-43DF-B188-81B56772C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40548-B518-4E22-A8CA-AE628BFC7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3BAD9-F9C7-43D9-BE9B-942663D7C21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D41C8-FEFA-4B97-BEC6-9B7FAA39E57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ct"/><Relationship Id="rId3" Type="http://schemas.openxmlformats.org/officeDocument/2006/relationships/slide" Target="slide2.xml"/><Relationship Id="rId4" Type="http://schemas.openxmlformats.org/officeDocument/2006/relationships/slide" Target="slide4.xml"/><Relationship Id="rId5" Type="http://schemas.openxmlformats.org/officeDocument/2006/relationships/slide" Target="slide6.xml"/><Relationship Id="rId6" Type="http://schemas.openxmlformats.org/officeDocument/2006/relationships/slide" Target="slide8.xml"/><Relationship Id="rId7" Type="http://schemas.openxmlformats.org/officeDocument/2006/relationships/slide" Target="slide14.xml"/><Relationship Id="rId8" Type="http://schemas.openxmlformats.org/officeDocument/2006/relationships/slide" Target="slide38.xml"/><Relationship Id="rId9" Type="http://schemas.openxmlformats.org/officeDocument/2006/relationships/slide" Target="slide26.xml"/><Relationship Id="rId10" Type="http://schemas.openxmlformats.org/officeDocument/2006/relationships/slide" Target="slide50.xml"/><Relationship Id="rId11" Type="http://schemas.openxmlformats.org/officeDocument/2006/relationships/slide" Target="slide16.xml"/><Relationship Id="rId12" Type="http://schemas.openxmlformats.org/officeDocument/2006/relationships/slide" Target="slide28.xml"/><Relationship Id="rId13" Type="http://schemas.openxmlformats.org/officeDocument/2006/relationships/slide" Target="slide40.xml"/><Relationship Id="rId14" Type="http://schemas.openxmlformats.org/officeDocument/2006/relationships/slide" Target="slide52.xml"/><Relationship Id="rId15" Type="http://schemas.openxmlformats.org/officeDocument/2006/relationships/slide" Target="slide18.xml"/><Relationship Id="rId16" Type="http://schemas.openxmlformats.org/officeDocument/2006/relationships/slide" Target="slide30.xml"/><Relationship Id="rId17" Type="http://schemas.openxmlformats.org/officeDocument/2006/relationships/slide" Target="slide42.xml"/><Relationship Id="rId18" Type="http://schemas.openxmlformats.org/officeDocument/2006/relationships/slide" Target="slide54.xml"/><Relationship Id="rId19" Type="http://schemas.openxmlformats.org/officeDocument/2006/relationships/slide" Target="slide20.xml"/><Relationship Id="rId20" Type="http://schemas.openxmlformats.org/officeDocument/2006/relationships/slide" Target="slide32.xml"/><Relationship Id="rId21" Type="http://schemas.openxmlformats.org/officeDocument/2006/relationships/slide" Target="slide44.xml"/><Relationship Id="rId22" Type="http://schemas.openxmlformats.org/officeDocument/2006/relationships/slide" Target="slide56.xml"/><Relationship Id="rId23" Type="http://schemas.openxmlformats.org/officeDocument/2006/relationships/slide" Target="slide22.xml"/><Relationship Id="rId24" Type="http://schemas.openxmlformats.org/officeDocument/2006/relationships/slide" Target="slide34.xml"/><Relationship Id="rId25" Type="http://schemas.openxmlformats.org/officeDocument/2006/relationships/slide" Target="slide46.xml"/><Relationship Id="rId26" Type="http://schemas.openxmlformats.org/officeDocument/2006/relationships/slide" Target="slide58.xml"/><Relationship Id="rId27" Type="http://schemas.openxmlformats.org/officeDocument/2006/relationships/image" Target="../media/image2.jpeg"/><Relationship Id="rId28" Type="http://schemas.openxmlformats.org/officeDocument/2006/relationships/image" Target="../media/image3.jpeg"/><Relationship Id="rId29" Type="http://schemas.openxmlformats.org/officeDocument/2006/relationships/image" Target="../media/image4.png"/><Relationship Id="rId30" Type="http://schemas.openxmlformats.org/officeDocument/2006/relationships/image" Target="../media/image5.jpeg"/><Relationship Id="rId31" Type="http://schemas.openxmlformats.org/officeDocument/2006/relationships/image" Target="../media/image6.jpeg"/><Relationship Id="rId32" Type="http://schemas.openxmlformats.org/officeDocument/2006/relationships/audio" Target="../media/jeop.wav"/><Relationship Id="rId3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00"/>
                </a:solidFill>
                <a:latin typeface="Times New Roman"/>
              </a:rPr>
              <a:t>Jeopardy</a:t>
            </a:r>
            <a:endParaRPr b="0" lang="en-US" sz="80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762120" y="1511280"/>
          <a:ext cx="7681680" cy="5346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511280"/>
                    <a:ext cx="7681680" cy="534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"/>
          <p:cNvSpPr/>
          <p:nvPr/>
        </p:nvSpPr>
        <p:spPr>
          <a:xfrm>
            <a:off x="1003680" y="162072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lide 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362320" y="1676520"/>
            <a:ext cx="14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lide 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107240" y="175248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lide 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638680" y="17524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lide 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010280" y="1676520"/>
            <a:ext cx="125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lide 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84024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3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00720" y="32418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4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900720" y="400356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5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900720" y="476568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6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51676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7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56488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8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04064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9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01244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0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51676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1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04064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2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56488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3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01244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4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516760" y="39625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5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964680" y="39625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6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541120" y="39625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7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2440" y="403848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8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516760" y="472428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9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040640" y="4800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0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564880" y="4800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1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012440" y="4800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2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676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3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04064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4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56488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5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01244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6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068840" y="62485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Q $6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514600" y="6248520"/>
            <a:ext cx="109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Q $6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16960" y="62485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Q $6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088760" y="62485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Q $6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640840" y="62485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Q $6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900720" y="55278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7"/>
          <a:stretch/>
        </p:blipFill>
        <p:spPr>
          <a:xfrm>
            <a:off x="838080" y="1295280"/>
            <a:ext cx="1524240" cy="114300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8"/>
          <a:stretch/>
        </p:blipFill>
        <p:spPr>
          <a:xfrm>
            <a:off x="2362320" y="1295280"/>
            <a:ext cx="1527120" cy="114300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9"/>
          <a:stretch/>
        </p:blipFill>
        <p:spPr>
          <a:xfrm>
            <a:off x="3886200" y="1295280"/>
            <a:ext cx="1527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30"/>
          <a:stretch/>
        </p:blipFill>
        <p:spPr>
          <a:xfrm>
            <a:off x="5334120" y="1295280"/>
            <a:ext cx="1527120" cy="114300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1"/>
          <a:stretch/>
        </p:blipFill>
        <p:spPr>
          <a:xfrm>
            <a:off x="6858000" y="1295280"/>
            <a:ext cx="152388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jeo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Question from Slide 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1891440" y="3168720"/>
            <a:ext cx="326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an Icon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Answer from Slide 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7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526040" y="3200400"/>
            <a:ext cx="664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 religious image used for worship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(often in homes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600 Question from Slide 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cribe the style of the pie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600 Answer from Slide 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donna looks fl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rist Child is hovering and looks ol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abric is abstrac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Question from Slide 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1893240" y="3168720"/>
            <a:ext cx="59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the name of this Piece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Answer from Slide 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8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1891080" y="3168720"/>
            <a:ext cx="2745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Book of Kell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hi Rho Pag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Question from Slide 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1893600" y="3168720"/>
            <a:ext cx="568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the date of this piece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Answer from Slide 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1923840" y="3168720"/>
            <a:ext cx="477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Late 8</a:t>
            </a:r>
            <a:r>
              <a:rPr b="0" lang="en-US" sz="36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Early 9</a:t>
            </a:r>
            <a:r>
              <a:rPr b="0" lang="en-US" sz="36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Centur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Question from Slide 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1892520" y="3168720"/>
            <a:ext cx="361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the “Era?”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Answer from Slide 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1892520" y="3168720"/>
            <a:ext cx="295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arly Christia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Question from Slide 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4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1893240" y="3168720"/>
            <a:ext cx="604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the Name of this Piece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Question from Slide 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9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1892160" y="316872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the Media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Answer from Slide 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1891800" y="3168720"/>
            <a:ext cx="388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empura on Vellum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Question from Slide 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0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1892160" y="3168720"/>
            <a:ext cx="307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o created it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Answer from Slide 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891440" y="3168720"/>
            <a:ext cx="332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onks in Irelan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600 Question from Slide 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does Chi Rho stand f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600 Answer from Slide 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Monogram of Chri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Question from Slide 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1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1893600" y="3168720"/>
            <a:ext cx="591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the name of this piece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Answer from Slide 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1891080" y="3168720"/>
            <a:ext cx="449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ood Shepherd Mosaic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Question from Slide 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1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1892880" y="3168720"/>
            <a:ext cx="381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ere is it located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Answer from Slide 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1892520" y="3168720"/>
            <a:ext cx="5205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asoleum of Galla Plaidia,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avenna Ital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Answer from Slide 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4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1891440" y="3168720"/>
            <a:ext cx="334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ellon Madonn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Question from Slide 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2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1892520" y="3168720"/>
            <a:ext cx="354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the “era?”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Answer from Slide 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1892520" y="3168720"/>
            <a:ext cx="295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arly Christia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Question from Slide 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2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1892160" y="3168720"/>
            <a:ext cx="3440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the Date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Answer from Slide 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1890720" y="3168720"/>
            <a:ext cx="86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425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Question from Slide 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3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1892520" y="3168720"/>
            <a:ext cx="369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the media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Answer from Slide 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/>
          <p:nvPr/>
        </p:nvSpPr>
        <p:spPr>
          <a:xfrm>
            <a:off x="1891080" y="3168720"/>
            <a:ext cx="152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osaic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600 Question from Slide 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is a lunet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600 Answer from Slide 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mi-Circular opening above a door or window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Question from Slide 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4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1893600" y="3168720"/>
            <a:ext cx="583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the name of the Piece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Answer from Slide 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>
            <a:off x="1891440" y="3168720"/>
            <a:ext cx="265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agia Sophi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Question from Slide 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4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1893600" y="3168720"/>
            <a:ext cx="568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the date of this piece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Question from Slide 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5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/>
          <p:nvPr/>
        </p:nvSpPr>
        <p:spPr>
          <a:xfrm>
            <a:off x="1892880" y="3168720"/>
            <a:ext cx="381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ere is it located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Answer from Slide 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>
            <a:off x="1891800" y="3168720"/>
            <a:ext cx="320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stanbul, Turke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Question from Slide 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1892520" y="3168720"/>
            <a:ext cx="333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the date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Answer from Slide 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/>
          <p:nvPr/>
        </p:nvSpPr>
        <p:spPr>
          <a:xfrm>
            <a:off x="1890720" y="3168720"/>
            <a:ext cx="170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532-537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Question from Slide 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/>
          <p:nvPr/>
        </p:nvSpPr>
        <p:spPr>
          <a:xfrm>
            <a:off x="1891800" y="3168720"/>
            <a:ext cx="205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rchitec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Answer from Slide 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/>
          <p:nvPr/>
        </p:nvSpPr>
        <p:spPr>
          <a:xfrm>
            <a:off x="1891800" y="3168720"/>
            <a:ext cx="472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ntemius of Tralles and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sodorus of Miletu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Question from Slide 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70" name=""/>
          <p:cNvSpPr/>
          <p:nvPr/>
        </p:nvSpPr>
        <p:spPr>
          <a:xfrm>
            <a:off x="1892880" y="3168720"/>
            <a:ext cx="5267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style is the church in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Answer from Slide 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1892160" y="3168720"/>
            <a:ext cx="4025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entral Plan Church,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Byzantin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600 Question from Slide 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is the signficance of the four tow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600 Question from Slide 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y were minarets added when the church was used as a mosqu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Answer from Slide 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5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1906560" y="3168720"/>
            <a:ext cx="243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3</a:t>
            </a:r>
            <a:r>
              <a:rPr b="0" lang="en-US" sz="36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Centur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Question from Slide 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>
            <a:off x="1893600" y="3168720"/>
            <a:ext cx="583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the name of the Piece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Answer from Slide 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/>
          <p:nvPr/>
        </p:nvSpPr>
        <p:spPr>
          <a:xfrm>
            <a:off x="1892880" y="3168720"/>
            <a:ext cx="46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isa Cathedral Complex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Question from Slide 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86" name=""/>
          <p:cNvSpPr/>
          <p:nvPr/>
        </p:nvSpPr>
        <p:spPr>
          <a:xfrm>
            <a:off x="1892160" y="3168720"/>
            <a:ext cx="444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period is it from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Answer from Slide 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89" name=""/>
          <p:cNvSpPr/>
          <p:nvPr/>
        </p:nvSpPr>
        <p:spPr>
          <a:xfrm>
            <a:off x="1891800" y="3168720"/>
            <a:ext cx="254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omanesqu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Question from Slide 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92" name=""/>
          <p:cNvSpPr/>
          <p:nvPr/>
        </p:nvSpPr>
        <p:spPr>
          <a:xfrm>
            <a:off x="1890720" y="316872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ate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Answer from Slide 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1890720" y="3168720"/>
            <a:ext cx="216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063-1174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Question from Slide 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9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1892160" y="3168720"/>
            <a:ext cx="474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are the three parts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Answer from Slide 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>
            <a:off x="1451880" y="3200400"/>
            <a:ext cx="635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Bell Tower, Baptistery, Cathedra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Question from Slide 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30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>
            <a:off x="1892520" y="3168720"/>
            <a:ext cx="369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the media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Answer from Slide 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307" name=""/>
          <p:cNvSpPr/>
          <p:nvPr/>
        </p:nvSpPr>
        <p:spPr>
          <a:xfrm>
            <a:off x="1891800" y="3168720"/>
            <a:ext cx="273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ite Marbl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Question from Slide 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1146960" y="3124080"/>
            <a:ext cx="725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 what empire was this piece created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600 Question from Slide 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cribe the signfica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600 Answer from Slide 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omanesque features include: crossing dome and arcade galler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aptistery was redecorated in the gothic perio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e of the few churches to feature a law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Answer from Slide 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5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1892160" y="3168720"/>
            <a:ext cx="203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Byzantin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Question from Slide 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1892160" y="316872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the Media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Answer from Slide 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6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1891800" y="3168720"/>
            <a:ext cx="438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gg Tempura on Pane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17T14:16:32Z</dcterms:created>
  <dc:creator>SCPS</dc:creator>
  <dc:description/>
  <dc:language>en-US</dc:language>
  <cp:lastModifiedBy>Ed Center RLASD</cp:lastModifiedBy>
  <dcterms:modified xsi:type="dcterms:W3CDTF">2010-03-25T16:44:42Z</dcterms:modified>
  <cp:revision>18</cp:revision>
  <dc:subject/>
  <dc:title>Jeopardy</dc:title>
</cp:coreProperties>
</file>